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E03E-35B8-40CF-924A-EFDE6209E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057F-FFE5-45CC-9F9B-6ADD8A7E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31E0-2C85-40F7-B15C-9C15943A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149-FC28-40EA-A342-4BDF3731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7752-3754-4681-B641-622D3D0D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697D-5F1E-4A2A-BAB2-F3C60198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3663-5F1F-44FD-AF77-6597DC92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6076-28B3-4C1D-85FB-A961E5EF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440-B382-4289-8C93-A313FACC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F7DB-CAC7-4B8C-9CF1-11D1B4D6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3500-53A1-4C28-8EFC-96B2AA17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2BA4-DDCE-4D7E-89E9-4C31E48D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D72A-180C-441C-8CF8-CB8247822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start Job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rvi Shanmugh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start Job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Group has a Group Behavior 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 the group jobs affect group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Group Level attributes TBD here based on future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 definitions could be in a separate directory /etc/init.d/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Jobs in their definition can choose to join a group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m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Member jobs get affected during a group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 jobs affect the group. They may or may not be part of the group itself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gger to restart group for now. Other triggered operations TBD as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tanzas 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roup File St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tanza defines it to be a group job and specifies how individual members affect the combined group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-state [AND|OR]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Job File Stanz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tanza allows for a modular job file definition.  Values in the file augment and override the main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&lt;job-file.includ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tanza is specified in the individual job files when the job should be a member of a group. A job can be part of more than one gro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-member &lt;group-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tanza is specified in the individual job files when the job should be a trigger to a group operation. A job can be a trigger for more than one gro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-trigger &lt;group-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tanza sets a jobs initial config state. Default value: enabled.  Config state affects if a job will be started when its startup conditions are m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-state [disabled|enabled|optional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St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 state simply combines the states of the group members as defined by the group-state stan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– combines the member state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job1 and job2 and job3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 - combines the member state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job1 or job2 or job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start Operations/API Enhanc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individual job operations can be done on a group-name and will translate to that operation being applied to all jobs in the gro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s to a START to all jobs in the grou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s to a STOP to all jobs in th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s to a RESTART to all jobs in the group. This happens in parallel to all jobs in the group. Does not guarantee restart order within th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-Subscri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s to a state-subscribe to all the individual jobs in the group. The same command can also be used to subscribed to the group state only,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g-State Enable/Di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s to a Enable/Disable of the config state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06:57:18Z</dcterms:created>
  <dc:creator>Cisco Systems, Inc.</dc:creator>
  <dc:description/>
  <dc:language>en-US</dc:language>
  <cp:lastModifiedBy>Cisco Systems, Inc.</cp:lastModifiedBy>
  <dcterms:modified xsi:type="dcterms:W3CDTF">2009-07-23T06:33:33Z</dcterms:modified>
  <cp:revision>13</cp:revision>
  <dc:subject/>
  <dc:title>Slide 1</dc:title>
</cp:coreProperties>
</file>