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514F-7910-45EB-9163-B0C55F6A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AB2-C6F6-4AE7-AAF4-14F1C62F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E30B-00E2-421C-9A20-9F2F84E6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579-C773-4FD9-BA95-6A6EDBF5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0F8-DE29-4E0D-A097-463C9A072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6FA0-B619-4CFF-811F-6DFD817D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441A-E45B-4654-94D5-B4C356A6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F7F-8425-4901-9D26-DEA96C30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56B9-467A-4E7E-87CD-01EA3CF9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1A0-8C8D-46B9-BA33-E025350B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73C1-FD5F-4B25-9935-57D679B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12BB-A677-413D-88B2-0B47BD9B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B186-53D4-47BA-A44F-C79C68949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start Job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vi Shanmu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start Job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roup has a Group Behavior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 the group jobs affect grou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Group Level attributes TBD here based on futur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definitions could be in a separate directory /etc/init.d/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Jobs in their definition can choose to join a group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mber jobs get affected during a group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jobs affect the group. They may or may not be part of the group itself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to restart group for now. Other triggered operations TBD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anza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up File 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defines it to be a group job and specifies how individual members affect the combined group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-state [AND|OR]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Job File St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allows for a modular job file definition.  Values in the file augment and override the main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&lt;job-file.inclu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is specified in the individual job files when the job should be a member of a group. A job can be part of more than one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-member &lt;group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is specified in the individual job files when the job should be a trigger to a group operation. A job can be a trigger for more than on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-trigger &lt;group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sets a jobs initial config state. Default value: enabled.  Config state affects if a job will be started when its startup conditions are m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-state [disabled|enabled|optiona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tate simply combines the states of the group members as defined by the group-state st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– combines the member state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job1 and job2 and job3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- combines the member state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job1 or job2 or jo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start Operations/API Enhanc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dividual job operations can be done on a group-name and will translate to that operation being applied to all jobs in the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START to all jobs in the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STOP to all jobs 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RESTART to all jobs in the group. This happens in parallel to all jobs in the group. Does not guarantee restart order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-Sub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state-subscribe to all the individual jobs in the group. The same command can also be used to subscribed to the group state only,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-State Enable/Di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Enable/Disable of the config state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6:57:18Z</dcterms:created>
  <dc:creator>Cisco Systems, Inc.</dc:creator>
  <dc:description/>
  <dc:language>en-US</dc:language>
  <cp:lastModifiedBy>Cisco Systems, Inc.</cp:lastModifiedBy>
  <dcterms:modified xsi:type="dcterms:W3CDTF">2009-07-23T06:33:33Z</dcterms:modified>
  <cp:revision>13</cp:revision>
  <dc:subject/>
  <dc:title>Slide 1</dc:title>
</cp:coreProperties>
</file>